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A33-33CB-441D-A3F4-17ADA1B2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DF1-0EA8-4E3C-AC06-99D7F05C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E73-67CB-4CD2-AC65-9CC1EAE0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28F-B99C-49E6-8E9B-ECDAF0A5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485B-C7B3-4D0C-8C26-2975CE10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6DFC-4D8F-4DD5-B109-730DAC31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B9F4-23D6-42BB-9096-9E1F9986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FFA9-2477-495F-BCDF-6F644642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3C5D-2172-4710-B150-58CFB6FB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25F5-C5CD-4325-88EF-57945583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3BCB-037E-4FF7-91BC-B2B48B18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960-1AA3-4D51-998E-3AE06632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625E-7AE3-4DEB-922D-DEC3FCCB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092C-88E6-46C4-8E85-129DE77E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D26C-193B-4031-AE69-DCE9FA33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DE9C-9CDB-4E1C-9FB7-FCFD6900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E719-211E-4F5D-A8E5-242F249D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1EE-B06E-4216-B6B8-1804DB5A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F50-E2A7-4B1E-A8FB-0BCBDFA0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0EC-7D8C-417E-930C-70A0B44D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CF5-DEFF-4852-A71C-021BBD14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E3A-AEA8-47C5-BCD0-23F15ECF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2FD-E07D-4242-BE9B-3ABF12F6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12F-BBB2-4001-9AFB-191D1FAD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9DE9-01C9-4A93-AE5F-174D2D4031C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9DB9-82A3-4CDD-828D-00D7348B9FB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personal learning prof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a’Darriu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learning sty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y learning style is tacti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at means that I’m kinesthetic: I learn best by do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learning techniqu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 abstarct sequential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at means that I have a imaginative, neat, and orde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hemisphere of my bra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found out that my left side of my brain is less dominate than my right si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re dominate than my left bra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intelligence typ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hysical awareness and street wise intelligenc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at means that I’m physical and smar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y its important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ou might learn different from other peop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can I apply 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can apply it when I ever need i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48:03Z</dcterms:created>
  <dc:creator>student</dc:creator>
  <dc:description/>
  <dc:language>en-US</dc:language>
  <cp:lastModifiedBy>student</cp:lastModifiedBy>
  <dcterms:modified xsi:type="dcterms:W3CDTF">2010-10-26T13:57:40Z</dcterms:modified>
  <cp:revision>5</cp:revision>
  <dc:subject/>
  <dc:title>   My personal learning profile</dc:title>
</cp:coreProperties>
</file>